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0C9-6D63-428F-9914-97732C4B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8ED-7C7B-4A70-8B92-705FE322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14C-2FE2-4268-8BD9-E91BCA1E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25E-C54C-4B3E-8B96-BDDC571B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CEF-567D-4C43-A4F3-F8D5F13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D7D-4DE8-4DEF-AD91-ABA908AA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3F8-0BCB-44BF-9CA7-1B49A10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E12-DC33-43EE-9A06-D1CE081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5A6-D93F-4DEA-B76A-F0F8A94F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E70-FC69-4A41-A9ED-30FE1D4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A75-C3C1-4807-BEC4-9D100B8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8DE-CDA1-41E2-8B2A-5FC01D9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BE45-581D-4ED4-BA3A-1A7EA371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441520" y="0"/>
            <a:ext cx="424332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15200" y="619128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ul riscului cardiovascular total (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preventia a bolilor cardiovascu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53080" y="260280"/>
            <a:ext cx="7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exa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611280" y="44280"/>
            <a:ext cx="7896240" cy="61088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915200" y="619128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ul riscului cardiovascular total 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preventia a bolilor cardiovascu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78000" y="260280"/>
            <a:ext cx="835164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822600" y="5877000"/>
            <a:ext cx="74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oritm de management al pacientilor cu boala coronariana (B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 diabet zaharat (DZ) sau scaderea tolerantei la glucoza (ST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diabet, prediabet si boli cardiovascu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16080" y="1001880"/>
            <a:ext cx="4865760" cy="3644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89560" y="587700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ificarea clinica a insuficientei cardiace ac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insuficienta cardia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22480" y="447840"/>
            <a:ext cx="5075280" cy="4470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02600" y="5877000"/>
            <a:ext cx="71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aluarea pacientilor cu insuficienta cardiaca acuta suspect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insuficienta cardia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143080" y="836640"/>
            <a:ext cx="484344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186200" y="5734080"/>
            <a:ext cx="674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egia de tratament in insuficienta cardiaca acuta pe b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iunii de umplere a ventriculului st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insuficienta cardia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108160" y="1023840"/>
            <a:ext cx="4930920" cy="3659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186200" y="5734080"/>
            <a:ext cx="674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egia de tratament in insuficienta cardiaca acuta pe b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nsiunii arteriale sisto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insuficienta cardia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93960" y="331920"/>
            <a:ext cx="3530520" cy="4392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070280" y="5877000"/>
            <a:ext cx="697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oritm de tratament pentru pacientii cu insuficienta cardi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ptomatica si fractie de ejectie red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hidul de insuficienta cardia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1:08:53Z</dcterms:created>
  <dc:creator>Dragos</dc:creator>
  <dc:description/>
  <dc:language>en-US</dc:language>
  <cp:lastModifiedBy>a.constantin</cp:lastModifiedBy>
  <dcterms:modified xsi:type="dcterms:W3CDTF">2010-08-26T07:10:41Z</dcterms:modified>
  <cp:revision>6</cp:revision>
  <dc:subject/>
  <dc:title>Slide 1</dc:title>
</cp:coreProperties>
</file>